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AP  TEST  REVIEW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PART  TWO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ligious Wars through Scientific Re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The  End  of  Charles’  Reign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55:  The Peace of Augsburg established some measure of religious freedom in the HRE (cuius regio, eius relig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56:  Charles retired to a monast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56:  Ferdinand I (his brother) got the HRE and Philip II (his son) got Spain, Netherlands, Naples, Milan, and the New World colon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Spain  Under  Philip II       (1556 - 1598)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ip inherited a nation blessed with great wealth in the form of gold and silver from the New World.  He squandered much of it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nding huge amounts of resources by fighting religious wars to try to halt the spread of the Reform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ing luxury items from other nations to keep the Spanish nobility hap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The  Dutch  Revolt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the leadership of William of  Orange (William the Silent), the Calvinist Dutch provinces united with the Catholic Dutch provinces to assert their independence from Spanish contr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lvinist provinces resented the Inquisition and all of the provinces resented the payment of taxes to Sp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The  Dutch,  continued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ip, a intense and determined man, sent the Duke of Alva to stop the revol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actions included the council of blood and the sacking of Antwer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ing the sacking of Antwerp, the Catholic provinces left the Dutch alliance and joined with the Span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tholic provinces eventually became Belgium, while the Calvinist ones became the Netherl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The  Spanish  Armada  (1588)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rivalry existed between Spain and England over control of the seas and control of new world weal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between the two nations had not been very good for a long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ip decided to attack England in an attempt to restore Catholicism to the nation in 158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Reasons  for  the Attack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ip had been married to Mary I (Eng).  After her death, Philip made some overtures to Elizabeth I and she refused to marry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ip wanted to restore Catholicism to En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ip was angry that England had aided the Dutch in their fight against Sp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More  Reasons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ip resented English power in the new world and resented the attacks of the English “sea dogs” on Spanish galle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in was involved in several plots against Elizabeth and finally in 1587, Mary Queen of Scots was execu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The  Defeat  of  Spain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 English  decisively  defeated  the  Spanish  Armada in 1588, thus preventing any Spanish acquisition of En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**This defeat forever weakened Spain and led to its decline in the next centu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The  Dutch  Republic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ed de facto independence from Spain by the late 1500’s.  This was made official in 164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en Age of the Dutch Republic:  early 1600’s due to political stability, economic prosperity, and cultural achiev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The  Thirty  Years’  War   (1618 - 1648)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ver weakened the HRE and paved the way for French continental suprema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. 1/3 of the population died and approx. 1/2 of the wealth of the German states was deple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decimation set the stage for the long-term fragmentation of central Eur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The  Invasions  of  Italy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talian city-states were attractive to invaders for several reas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ere wealthy territories which were a tempting target for stronger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ere quite small and were easy prey for larger po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The Bohemian Phase         (1618 - 1625)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stant, Frederick V of Bohemia demanded more autonomy for Bohemia from Ferdinand II (H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nestration of Pra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bellion drove the Imperial forces from Bohe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testant forces were decisively defeated at the Battle of White Mountain and Frederick was depo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The  Danish  Phase            (1625 - 1629)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ish King Christian IV stepped up to lead the Protestants who were nearly wiped out after phase 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testant forces experienced more losses at the hands of Tilly and Wallenste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dict of Restitution forced protestants to restore to the Catholic church all lands that had been taken from it since 1552.  This was a major def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The  Swedish  Phase         (1630 - 1635)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edish King Gustavus Adolphus and his army landed in Germany, starting phase III of the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nal Richelieu of Catholic France supported Gustavus and the Protestant forces in an attempt to control the power of the Hapsbur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Swedish  Phase,  continued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early protestant victories, but Gustavus was killed in the battle of Luetzen in 163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rdinand had Wallenstein assassinated in 163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, this phase of the war was a costly one for both si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The  Swedish-French  Phase (1635 - 1648)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eden was attacked by Denmark in 1635, because Denmark hoped to break the power of the Swedish emp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 sent troops to help Swe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h. France + Prot. Sweden vs. Cath. HRE + Prot. Denmark + Cath. S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45:  Denmark surrend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48: Germans called for a tru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The  Treaty  of  Westphalia  (1648)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ewed the Peace of Augsburg (cuius regio, eius religi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icially recognized Calvinism as a legal reli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llified the Edict of Restitution (whoever owned the land in 1624 got it bac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ed the independence of Switzerland and the Nether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Westphalia,  continued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 princes given more sovereignty (they now had the right to raise armies and conclude foreign allian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greed to settle their religious disputes through negotiation, rather than edict or majority vo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treaty permanently weakened and fragmented the H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The  Final  Phase  (1648 - 1659)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ough the German states were no longer involved as combatants in the war, Spain and France continued to war over their differences, fighting on German so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nations looted and pillaged the German lands, and the devastated Germans were helpless in stopping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hase ended with the Treaty of the Pyran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THE  FRENCH  CIVIL  WARS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ough France had only a small minority of Huguenots (approx. 9% in 1560), they had far more power than their numbers, because most protestants were upper middle class persons or members of the no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f these Huguenots became Calvinist as an excuse to take a stand against the power of the Valois fam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Francis I and Henry II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of these kings were concerned about the growing Protestant minority and actively persecuted the Calvini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fortunately, Henry II died while his sons were quite young, leaving Catherine de Medici as the queen mother.  Catherine had a difficult time dealing with the various political and religious factions in France and her religious policies were disastrous for the 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Invasions by Charles II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2514240"/>
            <a:ext cx="807696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ed Naples and invaded Italy in 149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d early successes, but was eventually defeated by the “Holy League” (Venice, Papal States, HRE, Spain, and Mil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Political  and  Religious  Problems  in  France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political factions were competing to control  France by 156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rbons (Protesta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ses (Cathol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tellions (Protesta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gious war broke out in 1562.  Catherine would switch sides, for a time supporting the Protestants, then the Catholic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More  Wars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gious intolerance culminated in the St. Bartholomew’s Day massacre in 1572 when Coligny (Prot. advisor) and several thousand Parisian Protestants were ki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again ignited more warfare and led France into the “War of the Three Henry’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The  War  of  the  Three  Henry’s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is war, England helped the Protestant forces, and Spain helped the Cathol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g Henry III (Cath.) and Henry of Navarre (Prot.) vs. Henry Guise (Cath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III was killed, and Henry of Navarre won a series of military victories which established him as King Henry IV and created a new ruling dynasty in France--the Bourb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King  Henry IV (1589 - 1610)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he took over, France was in a state of religious and political disorder, and the central government was severely weake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rebuilt a devastated France with the help of his advisor, the Duke of Su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93: Henry became Catholic (“Paris is worth a mass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Achievements  of  Henry IV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98:  Edict of Nantes:  granted religious toleration to Protestants (1st legal recognition of Calvinism in any na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holicism was still the national religion (The religion of most Frenchm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stants could worship freely in Protestant cities and could again own proper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More  Achievements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ngthened the power of the monarch by weakening the power of the no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ored the bankrupt government to solv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an an extensive program for economic improvements--repairing and constructing roads, bridges and harbors, reclaiming marsh lands, and fostering agri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TUDOR   ENGLAND           (1485 - 1603)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VII: (1485 - 150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ored pe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property taxation on the no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ed the Court of the Star Cha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ped the nobles from maintaining private arm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ewed the economic wealth of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Henry VIII  (1509 - 1547)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ed the Church of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ed the 6 acts which broke the ties with the Pope but retained Catholic religious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ve church lands to court favor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ed  property tax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ed explo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oyed relative pe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Edward VI (1547 - 1553)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 king at age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ed Protestant beliefs for the Anglican Church and repealed the 6 a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Cranmer (Archbishop of Canterbury) introduced th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Book of Common Pray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Mary I  (1553 - 1558)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“Bloody  Mary”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est daughter of Henry VIII and Catherine of Arag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d Catholic in S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ried to Philip II of S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he became queen, she appointed Catholic Cardinal Pole as the Archbishop of Canterbu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Invasions by Louis XII, et. al.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ed Milan in 1498 and invaded it one year l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00: agreed to split Naples with Spanish King Ferdin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08: the League of Cambray [Ferdinand, Pope Julius II, Maximilian I (HRE)] took over rich Venetian terri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Mary I, continued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 attempted to force England back into the Catholic f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forced Parliament to revoke the Reformation laws and Protestant leaders and nobles were exiled and executed as heret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Elizabeth I (1558 - 1603)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ughter of Henry VIII and Anne Boleyn who was raised Prote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litique, she got Parliament to pass the 39 Articles which solved religious conflicts by allowing the Anglican church to retain Protestant teachings but use Catholic ritu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was opposed by radical Catholics and by the Purit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Mary Stuart, Queen of Scots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holic hopes centered on Mary Stu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a Calvinist revolt in Scotland, Mary fled to England where she was arrested by Elizabe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 was involved in several plots against Elizabeth and was finally executed in 158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Achievements  of  Elizabeth I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88:  English defeat of the Spanish Arm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renaiss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raged colonial enterprises and expl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ught a measure of religious peace to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03:  Died with no he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SPANISH  EXPLORATION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in had the largest oversea’s emp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umbus:  1492:  Sailed to find a water route to India but landed in Haiti and the Dominican Republic.  Sailed to Cu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more voyages brought Spanish colonization to the Caribbean reg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y of Tordesillas:  1494:  Portugal and Spain agreed to give Spain all of the New World except Braz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SPANISH  EXPLORATION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nce de  Leon:  1512:  Landed in Florida looking for gold and the fountain of youth--found nei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nado:  explored SW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boa:  discovered the Pacific Ocean by crossing the Isthmus of Pan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tes:  Conquered the Aztecs in Mexico (captured Montezu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SPANISH  EXPORATION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zzaro:  conquered the Incas of Per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ellan: 1519:  Tried to circumnavigate the globe.  He was killed in the Philippines, but one of his ships made it to India and back to Spain.  3 year jour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tholomew de Las Cases:  led missionaries to the New World and protested slavery and the poor treatment of the Indi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ENGLISH  EXPLORATION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Cabot:  1497 &amp; 1498:  2 trips to find the NW passage.  Explored Newfound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ke:  1577:  circumnavigated the globe and raided Spanish galle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leigh:  Attempted to colonize Virgi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k:  explored Australia and New Zealand--claimed it for the Brit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 claimed most of the N. Am. E. Co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FRENCH  EXPLORATION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razano:  Discovered the Hudson river &amp; with Cartier, claimed Canada for F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mplain:  explored the St. Lawrence Va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alle:  explored the Mississippi Va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quette &amp; Joliet:  explored the great lakes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 moved into Canada, W. Indies, and Louisi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DUTCH &amp; SWEDISH EXPLORATION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dson: 1609: Dutch: explored New York, Delaware, NY Bay, &amp; Hudson River Valley.  Colo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man:  discovered Australia &amp; New Zealand. Worked for Dutch E. India Co. in the mid-160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tch explorers took over many Portuguese colonies in the far east in the 160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38-1655:  Sweden claimed the lower Delaware Bay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Louis XII, continued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Ferdinand got the part of Venice that he wanted, he withdrew from the League of Cambray (and kept his part of Ital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pe got scared of the growing power of France and renewed the Holy League (this time adding Henry VII of England) to control Louis X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FRENCH  POLITICS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is XIII (1610 - 1643):  Became king at 9 with the help of the Queen mother, Marie de Medi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is appointed his advisor, Cardinal Richelieu, when he reached manh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elieu effectively ruled France for about 20 years and attempted to return power taken by the nobles back to the 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Actions  of  Louis XIII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banded the standing armies of the no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troyed the fortified castles of the no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up royal spy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ushed conspiracies with wholesale exec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More  Actions  of  Louis XIII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red control of the provinces to provincial officials called inten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ushed the political power of the Huguenots, but still allowed a small bit of religious tole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ed the 30 years War on the Protestant side to weaken the Hapsbur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Louis XIV (1643 - 1715)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 king at age 5.  Helped by Queen mother, Anne of Austria, and chief advisor, Cardinal Mazar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ndes:  2 successive revolts of the nobility:  crushed by Mazar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59:  Treaty of the Pyranees ended French involvement in the 30 years War and gave Maria Therese of Spain to Louis as his w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Policies  of  the  “Sun King”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ne Right Ruler (Bishop Bosseu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t up Versailles and was a great patron of the arts (Golden Age of Franc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tendents to strengthen royal power and control the power of the no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re for territorial expansion led Louis into 4 costly w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The  Wars  of  Louis XIV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result of the 4 wars fought during Louis’ reign, France lost many talented generals and found its economic situation to be un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of Devolution (1667-1668) Louis claimed the Spanish Netherlands as his wife’s unpaid dow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ed a small part of it as a result of the treaty of Aix-la-Chapel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More Wars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against the Dutch (1672-78) Louis went back to get more Dutch territory and to claim Dutch commercial interest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ght against the Dutch, HRE, Spain, and Prus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y of Nimwigen:  France received another small piece of the Sp. Netherlands, but lost many valuable 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More  Wars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of the League of Augsburg:(1680-97) Louis invaded Strasbourg and other Ger. border territ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ed by Spain, Dutch, Sweden, HRE, and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lemate:  Peace of Ryswick:  Louis retreated from most territories in return for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War of Spanish Succession (1702 - 1713)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nish king designated Louis’ grandson Philip as the Spanish heir and Leopold Hapsburg thought his son had a stronger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broke out and Spain and France fought England, HRE, and the Dut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bloody war ended in a virtual stalem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Treaty of Utrecht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treaty ended the War of Spanish Succ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ed Louis’ grandson Philip to become the King of Spain (Philip V), but forbade any combining of French and Spanish hold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 received control of Gibralter and of the As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in’s holdings in Italy and the Neth. went to the H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Action  by  Francis I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ed further Italian expansion but checked by Charles 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ated at the Battle of Pavia (1525) by Charles V (captured and later release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pe protested against both French and HRE actions, and Charles became annoyed with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French  Mercantilism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e minister, Colbert, was the architect of French Mercantilism. His actions inclu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d trade and commerce by trying to rid France of internal tarif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ed to maintain a favorable balance of trade to offset the huge military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great fa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ial production standards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based on gold &amp; si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ccessfully tried to balance the budg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Religious  Disputes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is’ absolutism extended to religious affai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ression of the Jansenists &amp; the burning of Port Royal. (they favored strict morality and less papal influenc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ocation of the Edict of Nantes: thousands of Huguenots were forced to either flee France or become Catho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lican Liberties: Louis would pay papal dues, if he could appoint French bisho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STUART  ENGLAND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 I:  (1603-25): ruled by divine 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oused the resentment of Parliament due to his absolu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enated the Puritan and Catholic min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ued a foreign policy friendly to Catholic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edly dismissed Parliament when it refused to grant his financial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ked forced loans and antiquated taxes to force payment for his political, social, and economic poli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Charles I (1625 - 49)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ction between parliament and Charles increased  and he was forced to accept the Petition of Right in 162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artial law in peace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quartering of troops in private h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axes without parliamentary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imprisonment without a jury 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War with the Scots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les ruled without parliament until 1640 when he was forced to ask Parl. for money to fight a war with Scot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les had tried to force Anglican services on Scot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ominantly Puritan English Parliament demanded an end to the religious &amp; political policies of Charles &amp; was dismissed after 3 weeks (Short Parlia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Results of the War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enough money to equip his troops properly, Charles’ army soon lost the war to Scot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les was forced to pay large indemnities to Scotland and had to call Parliament to again ask for mon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long parliament” gave him money in return for more power, but a divided parliament soon looked weak to Charles, and civil war broke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The Civil War (1649-1660)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liament was somewhat split on how much the king’s authority should be curb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les used this division to attempt to reassert his contr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les attempted to arrest 5 members of Parliament, but he failed and civil war resul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The  Civil  War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valiers were wealthy trading and land-owning classes who supported the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ndheads were generally Puritans and members of the middle class who opposed the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a very small percent of the English population actually took part in the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Phase  one  (1642-1646)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he aid of the Scots and an efficient military organization (the new model army) commanded by Oliver Cromwell, Parliament’s forces were victori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plit soon occurred in Parliament between those who wanted the restoration of a very limited monarchy and those who wanted a Puritan theocra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Civil War:  Phase Two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civil war broke out from 1648-1649 over what type of government should be establis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mwell’s “Independent” party won due to his control of the arm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mwell gained control of Parliament and expelled the less radical memb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maining members were known as the “Rump Parliament and were controlled by the ar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The  Sacking  of  Rome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oyed with the Pope, Charles allowed his troops to sack Rome in 152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30: Charles made peace with the Pope and was given the title “King of Ital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40:  France again invaded Milan and Naples, but was defeated by the H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England  Under  Cromwell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liament did the following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ted to execute Charles I in 16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d England a “Commonwealth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ction developed between Cromwell &amp; Parliament and he disbanded it in 165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53: Cromwell declares England to be a Protectorate with him as “Lord Protecto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ruled with a council of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Cromwell, continued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ew parliament was elected, but its power was greatly reduced--England was essentially a military dictat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mwell ruled until he died in 1658.  He did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ed English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lled Ireland and Scotland to recognize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England’s power abro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liament overthrew his son in 166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Charles II (1660-1685)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liament invited Charles to rule England in the restoration of 1660.  He agreed to abide by Parliamentary controls on taxes and to call Parliament into session regular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Cavalier Parliament” passed a series of laws which suppressed the religious freedom of Catholics and Purit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Policies  of  Charles II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y of Dover: 1670: Secret treaty in which Charles received a subsidy from Louis XIV in return for vague religious promi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 of Indulgence: 1672: exempted religious dissenters from punishment under Parliament’s la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ctions angered the parlia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Parliament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73: Test Act: Passed by parliament, it excluded all Catholics from public off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liament was divided into two factions, the whigs &amp; the tories, but both feared the extension of royal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gs wanted a new Constitutional monarchy under a Protestant 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ies supported the king but feared the restoration of Catholic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6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James II (1685-1688)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les’ brother James took over when Charles died in 1685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 established a standing army and special courts to try those suspected of rebell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’ wife gave birth to a son in 1688 and  he was baptized Catholic.  This created a Catholic heir to the thr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The  Glorious  Revolution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g &amp; Tory leaders invited James’ daughter Mary and her husband William of Orange to rule En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ir forces landed in England, James fled to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&amp; Mary accepted the Bill of Rights in 1689 which limited the power of the monarchy &amp; created a “squirearch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William &amp; Mary (1688-1714)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1689 Bill of Rights inclu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anding armies or taxes without the consent of Parli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sessions of Parli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dom of Speech in Parli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could not suspend the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al by jury &amp; “no excessive bai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89: Toleration Act: freedom of worship for all Protestant s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The Scientific Revolution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ileo: improved the telescope, made astronomical observations, &amp; experimented with falling bodies. (Under house arre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ton: universal laws of motion, optics, calculus (Principia Mathemati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artes: analytic geometry, induction, rationalist “I think, therefore, I am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vey: circulation of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Science, continued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pler: mathematical demonstration of elliptical orbits (built on Copernican theo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on: Inductive method, required empirical proof of hypotheses (Novum Organ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uwenhok: invented the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ebnitz: developed calculus independent of Newton; optimistic philosop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work Universe model became pop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The  Empire of  Charles V  (1519 - 1556)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les was the grandson of Max. I and was the next living male he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les’ father had married a daughter of Ferdinand and Isabella before he 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les inherited a huge empire from his father and grandparents which included the HRE, Spain, the Low Countries, and the Italian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Weaknesses  of  Charles’  Empire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ically, his empire was so spread out it was difficult to contr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. German princes were striving for some measure of autonomy and were using religion as a pretext for rebell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formation had already begun when he became emperor, and this created religious division and w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4T04:16:15Z</dcterms:created>
  <dc:creator>Thomas R. Gerard</dc:creator>
  <dc:description/>
  <dc:language>en-US</dc:language>
  <cp:lastModifiedBy>Susan Gregory</cp:lastModifiedBy>
  <dcterms:modified xsi:type="dcterms:W3CDTF">2006-04-10T04:58:50Z</dcterms:modified>
  <cp:revision>76</cp:revision>
  <dc:subject/>
  <dc:title>AP  TEST  REVIEW PART  TWO</dc:title>
</cp:coreProperties>
</file>